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0DA9-700D-40F9-9AC7-F9982F085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D60D-2F2B-4DB3-A59A-D2F49978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9D62-5E10-4B50-BDF0-8590DB3A9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828D-F475-47FB-AB18-2AD289457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FFAE-316B-412E-8DCC-9D828EDD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AF9F-9D02-4CF9-AAE6-462A003E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9F9D-2FE9-48DE-B433-66ED5C42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EF97-0DDE-4A1D-9A46-EDF8E4A1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4FC7-348F-4A4F-A7FF-D1677E8A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3ED1-301D-461D-956A-8BC46566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F3F5-78CE-4581-A721-BD70ABB1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F8A7-1285-4B5A-819E-30065444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4C80-F4D3-4035-969B-76E54CF07C9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182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j0219110"/>
          <p:cNvPicPr/>
          <p:nvPr/>
        </p:nvPicPr>
        <p:blipFill>
          <a:blip r:embed="rId1"/>
          <a:stretch/>
        </p:blipFill>
        <p:spPr>
          <a:xfrm>
            <a:off x="4788000" y="692280"/>
            <a:ext cx="3844800" cy="4005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611280" y="260280"/>
            <a:ext cx="3168720" cy="86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dwardian Script ITC"/>
              </a:rPr>
              <a:t>The Secre-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dwardian Script ITC"/>
              </a:rPr>
              <a:t>The trunk is big and strong as the school saf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dwardian Script ITC"/>
              </a:rPr>
              <a:t>The twigs are pointy and sharp as penci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dwardian Script ITC"/>
              </a:rPr>
              <a:t>The branches swerve like typing finger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dwardian Script ITC"/>
              </a:rPr>
              <a:t>The leaves rustle like piles of pape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dwardian Script ITC"/>
              </a:rPr>
              <a:t>Ann and Paula are nu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dwardian Script ITC"/>
              </a:rPr>
              <a:t>The  roots are tangled like  telephone wir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dwardian Script ITC"/>
              </a:rPr>
              <a:t>The  bark shreds like paper in a shredde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dwardian Script ITC"/>
              </a:rPr>
              <a:t>And at night the sound of the wind is the sound of Ann and Paula  chatting and drinking coffee while the telephone r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12:04:41Z</dcterms:created>
  <dc:creator>JoyHalford</dc:creator>
  <dc:description/>
  <dc:language>en-US</dc:language>
  <cp:lastModifiedBy>Mac User</cp:lastModifiedBy>
  <dcterms:modified xsi:type="dcterms:W3CDTF">2010-05-31T17:01:05Z</dcterms:modified>
  <cp:revision>4</cp:revision>
  <dc:subject/>
  <dc:title>Slide 1</dc:title>
</cp:coreProperties>
</file>